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3.jpeg" ContentType="image/jpeg"/>
  <Override PartName="/ppt/media/image28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2.wmf" ContentType="image/x-wmf"/>
  <Override PartName="/ppt/media/image49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media/image46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45E-D648-442A-B9E0-6AC35A7D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EFA-98B2-4AD8-BF59-F0058162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37E-C146-494D-8C74-30C7D09D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F36-4164-487C-8E96-2C405DA9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B2A-84EC-4E9D-A981-B4F7F2E6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478-40C4-4903-A455-9F80F771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5D4-8F5D-4473-969F-7E52045D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0C6-5D5D-4921-9395-CFFA79B9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22B-AD9E-4856-AA2D-7CA91C9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48F-08AB-45C9-AF57-D6A3FC0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5DC-8768-4ED3-834D-B5179E0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6DB-0DAB-4DCC-9868-6196B6A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1871-4898-481B-959A-6D44DFF7A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238880" y="81000"/>
            <a:ext cx="1828800" cy="113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143000" y="556272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 Blackb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land College, Dallas,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las County Community College Distr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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tice 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371600" y="5335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 G. Wade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29B-FDEC-4981-BD24-1B480B5D8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zed by ADH, alcohol dehydrogen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ing agent is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cotinamide adenine dinucleot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ol oxidizes to acetaldehyde, then acetic acid, a normal metabo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ol oxidizes to formaldehyde, then formic acid, more toxic than meth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ylene glycol oxidizes to oxalic acid, tox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for poisoning is excess ethano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221E-112E-4CD0-BEFF-8EF116CB0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 as a Nucleop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H is weak nucleop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rong nucleop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-C bond forms, O-H bond break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333520" cy="266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2133720" y="2759040"/>
            <a:ext cx="48006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49C8-46F3-44C5-A106-06D4D8D82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 as an Electrop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good leaving group unless it is protonated, but most nucleophiles are strong bases which would remov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o tosylate (good leaving group) to react with strong nucleophile (ba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8" descr=""/>
          <p:cNvPicPr/>
          <p:nvPr/>
        </p:nvPicPr>
        <p:blipFill>
          <a:blip r:embed="rId1"/>
          <a:stretch/>
        </p:blipFill>
        <p:spPr>
          <a:xfrm>
            <a:off x="5819760" y="1600200"/>
            <a:ext cx="233352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9" descr=""/>
          <p:cNvPicPr/>
          <p:nvPr/>
        </p:nvPicPr>
        <p:blipFill>
          <a:blip r:embed="rId2"/>
          <a:stretch/>
        </p:blipFill>
        <p:spPr>
          <a:xfrm>
            <a:off x="4600440" y="281952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30"/>
          <p:cNvSpPr/>
          <p:nvPr/>
        </p:nvSpPr>
        <p:spPr>
          <a:xfrm>
            <a:off x="6043680" y="32004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2"/>
          <p:cNvSpPr/>
          <p:nvPr/>
        </p:nvSpPr>
        <p:spPr>
          <a:xfrm>
            <a:off x="5639400" y="48006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-Nuc bond form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-O bond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E71B-1F05-465B-9DEC-96E4160B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Tosylate 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86760" y="4572000"/>
            <a:ext cx="34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oluenesulfonyl chl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Cl, “tosyl chlor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557440" cy="3049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457720" cy="2895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4267080" y="1600200"/>
            <a:ext cx="4114800" cy="3027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6400800" y="4572000"/>
            <a:ext cx="25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osylate e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D045-1872-414A-BDE4-4F191FCB4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Reactions of Tosy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hydroxide produces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yanide produces nit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halide ion produces alkyl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lkoxide ion produces 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mmonia produces amin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iAl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alka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17D6-CC31-4836-96EB-81A8064C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osylat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D:\WADE\CHAP11\FIGURES\FG11_006.PCT"/>
          <p:cNvPicPr/>
          <p:nvPr/>
        </p:nvPicPr>
        <p:blipFill>
          <a:blip r:embed="rId1">
            <a:lum contrast="24000"/>
          </a:blip>
          <a:srcRect l="0" t="13030" r="0" b="20996"/>
          <a:stretch/>
        </p:blipFill>
        <p:spPr>
          <a:xfrm>
            <a:off x="838080" y="2057400"/>
            <a:ext cx="7621560" cy="3352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468200" y="4800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CA83-2D37-4EE2-AD31-0AB1D191A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e with conc.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ad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ylate, then reduce with LiAl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781680" cy="13082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990720" y="4495680"/>
            <a:ext cx="7536240" cy="1181160"/>
            <a:chOff x="990720" y="4495680"/>
            <a:chExt cx="7536240" cy="1181160"/>
          </a:xfrm>
        </p:grpSpPr>
        <p:pic>
          <p:nvPicPr>
            <p:cNvPr id="130" name="Picture 5" descr=""/>
            <p:cNvPicPr/>
            <p:nvPr/>
          </p:nvPicPr>
          <p:blipFill>
            <a:blip r:embed="rId2"/>
            <a:stretch/>
          </p:blipFill>
          <p:spPr>
            <a:xfrm>
              <a:off x="990720" y="4495680"/>
              <a:ext cx="6858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6"/>
            <p:cNvSpPr/>
            <p:nvPr/>
          </p:nvSpPr>
          <p:spPr>
            <a:xfrm>
              <a:off x="8001720" y="4876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D9C6-E52A-4851-9D3A-EEF1687D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 with HB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 of alcohol is proto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ood leav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° and 2° alcohols react with Br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a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° alcohols react via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914400" y="4191120"/>
            <a:ext cx="7612560" cy="1265040"/>
            <a:chOff x="914400" y="4191120"/>
            <a:chExt cx="7612560" cy="1265040"/>
          </a:xfrm>
        </p:grpSpPr>
        <p:pic>
          <p:nvPicPr>
            <p:cNvPr id="137" name="Picture 4" descr=""/>
            <p:cNvPicPr/>
            <p:nvPr/>
          </p:nvPicPr>
          <p:blipFill>
            <a:blip r:embed="rId1"/>
            <a:stretch/>
          </p:blipFill>
          <p:spPr>
            <a:xfrm>
              <a:off x="914400" y="4191120"/>
              <a:ext cx="685800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5"/>
            <p:cNvSpPr/>
            <p:nvPr/>
          </p:nvSpPr>
          <p:spPr>
            <a:xfrm>
              <a:off x="8001720" y="480060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1874-0E95-4A80-949B-F9CD6AB14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 with H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ide is a weaker nucleophile than brom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bonds strongly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OH, to promote the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loride product is insol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as test: 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onc.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° alcohols react slowly or not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cohols react in 1-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cohols react in less than 1 minu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0EE0-EB41-48D0-8229-433BB79CF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 of H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 does not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yields of 1° and 2° chlo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get alkene instead of alkyl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cation intermediate may rearrange.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6375-1743-4253-9E4D-CFD71624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lcoho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to alk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to aldehyde, ke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to form alkyl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alk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on synthesis of ether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2F38-113D-4F57-AE47-3EC4E246C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wi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rus Ha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yields with 1° and 2°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kyl chloride (but SO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kyl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and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kyl iodide (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stable)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661E-C89E-4FD5-B4C2-1A6CD65F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with PB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4647960"/>
            <a:ext cx="6172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bonds to -OH as B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ks backside 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ves                    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E:\Wade ed5 PPT\Graphics\Chapter 11\Reduced\FG11_01-50UN-01.jpg"/>
          <p:cNvPicPr/>
          <p:nvPr/>
        </p:nvPicPr>
        <p:blipFill>
          <a:blip r:embed="rId1"/>
          <a:stretch/>
        </p:blipFill>
        <p:spPr>
          <a:xfrm>
            <a:off x="1231920" y="1143000"/>
            <a:ext cx="66927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A1E2-CAE1-4CAC-8E8A-97FFDDE1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 wi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onyl Chlo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alkyl chloride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bonds to -OH, 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O bond breaks as 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erred to 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:\WADE\CHAP11\FIGURES\FG11_008.PCT"/>
          <p:cNvPicPr/>
          <p:nvPr/>
        </p:nvPicPr>
        <p:blipFill>
          <a:blip r:embed="rId1"/>
          <a:srcRect l="0" t="20004" r="0" b="36502"/>
          <a:stretch/>
        </p:blipFill>
        <p:spPr>
          <a:xfrm>
            <a:off x="685800" y="1600200"/>
            <a:ext cx="7621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0C27-8DAE-459D-A91D-9CDA6351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.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alk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cation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tzef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olecular dehydration produces 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temp, 140°C and below, favors 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emp, 180°C and above, favors alkene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CA72-E675-456F-B142-CB2EB890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419720" cy="160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2667240" cy="71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5486400" y="2666880"/>
            <a:ext cx="3352680" cy="127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4"/>
          <a:stretch/>
        </p:blipFill>
        <p:spPr>
          <a:xfrm>
            <a:off x="1219320" y="3657600"/>
            <a:ext cx="2514600" cy="191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5"/>
          <a:stretch/>
        </p:blipFill>
        <p:spPr>
          <a:xfrm>
            <a:off x="228600" y="3809880"/>
            <a:ext cx="3657600" cy="893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6"/>
          <a:stretch/>
        </p:blipFill>
        <p:spPr>
          <a:xfrm>
            <a:off x="3809880" y="3932280"/>
            <a:ext cx="32004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12"/>
          <p:cNvGrpSpPr/>
          <p:nvPr/>
        </p:nvGrpSpPr>
        <p:grpSpPr>
          <a:xfrm>
            <a:off x="5257800" y="4648320"/>
            <a:ext cx="3581280" cy="1450080"/>
            <a:chOff x="5257800" y="4648320"/>
            <a:chExt cx="3581280" cy="1450080"/>
          </a:xfrm>
        </p:grpSpPr>
        <p:pic>
          <p:nvPicPr>
            <p:cNvPr id="175" name="Picture 10" descr=""/>
            <p:cNvPicPr/>
            <p:nvPr/>
          </p:nvPicPr>
          <p:blipFill>
            <a:blip r:embed="rId7"/>
            <a:stretch/>
          </p:blipFill>
          <p:spPr>
            <a:xfrm>
              <a:off x="5257800" y="4648320"/>
              <a:ext cx="3581280" cy="13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11"/>
            <p:cNvSpPr/>
            <p:nvPr/>
          </p:nvSpPr>
          <p:spPr>
            <a:xfrm>
              <a:off x="8078040" y="563868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17D0-25E2-40D3-98C6-3947B627F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Diagram, E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E:\Wade ed5 PPT\Graphics\Chapter 11\Reduced\FG11_02-01.jpg"/>
          <p:cNvPicPr/>
          <p:nvPr/>
        </p:nvPicPr>
        <p:blipFill>
          <a:blip r:embed="rId1"/>
          <a:stretch/>
        </p:blipFill>
        <p:spPr>
          <a:xfrm>
            <a:off x="101520" y="1244520"/>
            <a:ext cx="8737560" cy="5613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8389080" y="6019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1607-005C-4F82-BEB6-4918A171B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que Reactions of Di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acol rearr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acid cleavage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E74B-23EF-405B-9502-F0061E826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acol Re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acol:  2,3-dimethyl-2,3-butaned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with 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5257800" cy="1438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562720" y="2666880"/>
            <a:ext cx="30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525780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29718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0"/>
          <p:cNvGrpSpPr/>
          <p:nvPr/>
        </p:nvGrpSpPr>
        <p:grpSpPr>
          <a:xfrm>
            <a:off x="5105520" y="5257800"/>
            <a:ext cx="3345120" cy="1438200"/>
            <a:chOff x="5105520" y="5257800"/>
            <a:chExt cx="3345120" cy="1438200"/>
          </a:xfrm>
        </p:grpSpPr>
        <p:pic>
          <p:nvPicPr>
            <p:cNvPr id="195" name="Picture 8" descr=""/>
            <p:cNvPicPr/>
            <p:nvPr/>
          </p:nvPicPr>
          <p:blipFill>
            <a:blip r:embed="rId5"/>
            <a:stretch/>
          </p:blipFill>
          <p:spPr>
            <a:xfrm>
              <a:off x="5105520" y="5257800"/>
              <a:ext cx="2971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9"/>
            <p:cNvSpPr/>
            <p:nvPr/>
          </p:nvSpPr>
          <p:spPr>
            <a:xfrm>
              <a:off x="7925400" y="55627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DA2-FF1E-4E60-8097-F715539B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Cleav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Gly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products formed as from ozonolysis of the corresponding alk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914400" y="2840040"/>
            <a:ext cx="7467480" cy="1403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3504960" cy="21524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8"/>
          <p:cNvGrpSpPr/>
          <p:nvPr/>
        </p:nvGrpSpPr>
        <p:grpSpPr>
          <a:xfrm>
            <a:off x="4495680" y="3886200"/>
            <a:ext cx="2126160" cy="2059920"/>
            <a:chOff x="4495680" y="3886200"/>
            <a:chExt cx="2126160" cy="2059920"/>
          </a:xfrm>
        </p:grpSpPr>
        <p:pic>
          <p:nvPicPr>
            <p:cNvPr id="204" name="Picture 6" descr=""/>
            <p:cNvPicPr/>
            <p:nvPr/>
          </p:nvPicPr>
          <p:blipFill>
            <a:blip r:embed="rId3"/>
            <a:stretch/>
          </p:blipFill>
          <p:spPr>
            <a:xfrm>
              <a:off x="4495680" y="3886200"/>
              <a:ext cx="14479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7"/>
            <p:cNvSpPr/>
            <p:nvPr/>
          </p:nvSpPr>
          <p:spPr>
            <a:xfrm>
              <a:off x="6096600" y="548640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6AC-D52B-4C76-A1B6-8B1F506AF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her: alcohol + carboxy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yl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es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AE6E-7982-499F-B20C-7AE4CCF5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2400" cy="122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61048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E:\Wade ed5 PPT\Graphics\Chapter 11\Reduced\FG11_00-01T01-01.jpg"/>
          <p:cNvPicPr/>
          <p:nvPr/>
        </p:nvPicPr>
        <p:blipFill>
          <a:blip r:embed="rId2"/>
          <a:stretch/>
        </p:blipFill>
        <p:spPr>
          <a:xfrm>
            <a:off x="0" y="1736640"/>
            <a:ext cx="91440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3DB3-A8EA-4910-A05F-6C6C7D36B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cher Est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+ Alcohol yields Ester +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ic acid is a cataly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ep is rever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3505320"/>
            <a:ext cx="5105520" cy="10047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143000" y="3886200"/>
            <a:ext cx="1523880" cy="609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4876920" y="3524400"/>
            <a:ext cx="4267080" cy="2345400"/>
            <a:chOff x="4876920" y="3524400"/>
            <a:chExt cx="4267080" cy="2345400"/>
          </a:xfrm>
        </p:grpSpPr>
        <p:pic>
          <p:nvPicPr>
            <p:cNvPr id="217" name="Picture 6" descr=""/>
            <p:cNvPicPr/>
            <p:nvPr/>
          </p:nvPicPr>
          <p:blipFill>
            <a:blip r:embed="rId2"/>
            <a:stretch/>
          </p:blipFill>
          <p:spPr>
            <a:xfrm>
              <a:off x="4876920" y="3524400"/>
              <a:ext cx="426708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7"/>
            <p:cNvSpPr/>
            <p:nvPr/>
          </p:nvSpPr>
          <p:spPr>
            <a:xfrm>
              <a:off x="79246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9449-CF1B-4148-9CE0-011D36B9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sylate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oluenesulfonic acid, Ts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chloride is actually used, Ts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85800" y="3030480"/>
            <a:ext cx="6019920" cy="1389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2362320" y="3352680"/>
            <a:ext cx="182880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8"/>
          <p:cNvGrpSpPr/>
          <p:nvPr/>
        </p:nvGrpSpPr>
        <p:grpSpPr>
          <a:xfrm>
            <a:off x="3581280" y="4267080"/>
            <a:ext cx="5257800" cy="1995480"/>
            <a:chOff x="3581280" y="4267080"/>
            <a:chExt cx="5257800" cy="1995480"/>
          </a:xfrm>
        </p:grpSpPr>
        <p:pic>
          <p:nvPicPr>
            <p:cNvPr id="226" name="Picture 6" descr=""/>
            <p:cNvPicPr/>
            <p:nvPr/>
          </p:nvPicPr>
          <p:blipFill>
            <a:blip r:embed="rId2"/>
            <a:stretch/>
          </p:blipFill>
          <p:spPr>
            <a:xfrm>
              <a:off x="3581280" y="4267080"/>
              <a:ext cx="525780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7"/>
            <p:cNvSpPr/>
            <p:nvPr/>
          </p:nvSpPr>
          <p:spPr>
            <a:xfrm>
              <a:off x="8306640" y="518148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716E-D91F-4306-9D24-433B099BB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ate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+ 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4114800" cy="138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905120" y="3200400"/>
            <a:ext cx="1447560" cy="533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581280" cy="14050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9"/>
          <p:cNvGrpSpPr/>
          <p:nvPr/>
        </p:nvGrpSpPr>
        <p:grpSpPr>
          <a:xfrm>
            <a:off x="76320" y="4572000"/>
            <a:ext cx="8991360" cy="1392120"/>
            <a:chOff x="76320" y="4572000"/>
            <a:chExt cx="8991360" cy="1392120"/>
          </a:xfrm>
        </p:grpSpPr>
        <p:pic>
          <p:nvPicPr>
            <p:cNvPr id="236" name="Picture 7" descr=""/>
            <p:cNvPicPr/>
            <p:nvPr/>
          </p:nvPicPr>
          <p:blipFill>
            <a:blip r:embed="rId3"/>
            <a:stretch/>
          </p:blipFill>
          <p:spPr>
            <a:xfrm>
              <a:off x="76320" y="4572000"/>
              <a:ext cx="899136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8"/>
            <p:cNvSpPr/>
            <p:nvPr/>
          </p:nvSpPr>
          <p:spPr>
            <a:xfrm>
              <a:off x="8154000" y="548640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0436-3811-4AE1-AFA1-B3140F30C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ate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1163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1676520" y="1981080"/>
            <a:ext cx="144756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990720" y="3276720"/>
            <a:ext cx="8152200" cy="1950840"/>
            <a:chOff x="990720" y="3276720"/>
            <a:chExt cx="8152200" cy="1950840"/>
          </a:xfrm>
        </p:grpSpPr>
        <p:pic>
          <p:nvPicPr>
            <p:cNvPr id="244" name="Picture 4" descr=""/>
            <p:cNvPicPr/>
            <p:nvPr/>
          </p:nvPicPr>
          <p:blipFill>
            <a:blip r:embed="rId2"/>
            <a:stretch/>
          </p:blipFill>
          <p:spPr>
            <a:xfrm>
              <a:off x="990720" y="3276720"/>
              <a:ext cx="75438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6"/>
            <p:cNvSpPr/>
            <p:nvPr/>
          </p:nvSpPr>
          <p:spPr>
            <a:xfrm>
              <a:off x="8617680" y="472428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B05D-0727-4416-A763-2A89F859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ate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4876560" cy="1424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429000" cy="1386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7"/>
          <p:cNvGrpSpPr/>
          <p:nvPr/>
        </p:nvGrpSpPr>
        <p:grpSpPr>
          <a:xfrm>
            <a:off x="4343400" y="3048120"/>
            <a:ext cx="3269160" cy="2055600"/>
            <a:chOff x="4343400" y="3048120"/>
            <a:chExt cx="3269160" cy="2055600"/>
          </a:xfrm>
        </p:grpSpPr>
        <p:pic>
          <p:nvPicPr>
            <p:cNvPr id="252" name="Picture 5" descr=""/>
            <p:cNvPicPr/>
            <p:nvPr/>
          </p:nvPicPr>
          <p:blipFill>
            <a:blip r:embed="rId3"/>
            <a:stretch/>
          </p:blipFill>
          <p:spPr>
            <a:xfrm>
              <a:off x="4343400" y="3048120"/>
              <a:ext cx="3124080" cy="20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6"/>
            <p:cNvSpPr/>
            <p:nvPr/>
          </p:nvSpPr>
          <p:spPr>
            <a:xfrm>
              <a:off x="7087320" y="434340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8236-C9F8-4703-A30F-19B7F8BC5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ate Ester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7985880" y="57564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1"/>
          <a:stretch/>
        </p:blipFill>
        <p:spPr>
          <a:xfrm>
            <a:off x="1219320" y="1317600"/>
            <a:ext cx="63244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EF33-14F0-4574-B258-CE2FD3DA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oxide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H + Na (or NaH) yields sodium alk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° alkyl halide yields ether (Williamson ether syn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152280" y="4114800"/>
            <a:ext cx="8839440" cy="1450440"/>
            <a:chOff x="152280" y="4114800"/>
            <a:chExt cx="8839440" cy="1450440"/>
          </a:xfrm>
        </p:grpSpPr>
        <p:pic>
          <p:nvPicPr>
            <p:cNvPr id="264" name="Picture 4" descr=""/>
            <p:cNvPicPr/>
            <p:nvPr/>
          </p:nvPicPr>
          <p:blipFill>
            <a:blip r:embed="rId1"/>
            <a:stretch/>
          </p:blipFill>
          <p:spPr>
            <a:xfrm>
              <a:off x="152280" y="4114800"/>
              <a:ext cx="883944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Rectangle 5"/>
            <p:cNvSpPr/>
            <p:nvPr/>
          </p:nvSpPr>
          <p:spPr>
            <a:xfrm>
              <a:off x="7773120" y="51055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37F2-67C3-451E-868D-85D1ECBE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4E19-3D0F-4C57-9F02-6AD9C1C3B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for inorganic 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d to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d to 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: los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ain of O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 gai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ss of O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:  gain or loss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H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C591-CE4A-4DC6-835F-3D24C665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º, 2º, 3º Carb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28"/>
          <p:cNvSpPr/>
          <p:nvPr/>
        </p:nvSpPr>
        <p:spPr>
          <a:xfrm>
            <a:off x="8306640" y="5791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29" descr="E:\Wade ed5 PPT\Graphics\Chapter 11\Reduced\FG11_01-01.jpg"/>
          <p:cNvPicPr/>
          <p:nvPr/>
        </p:nvPicPr>
        <p:blipFill>
          <a:blip r:embed="rId1"/>
          <a:stretch/>
        </p:blipFill>
        <p:spPr>
          <a:xfrm>
            <a:off x="1731960" y="1066680"/>
            <a:ext cx="5678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EC2F-8044-4362-8110-B717CACB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of 2°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° alcohol becomes a ke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gent is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reagent probably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change: orange to greenish-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914400" y="4419720"/>
            <a:ext cx="7848720" cy="1678680"/>
            <a:chOff x="914400" y="4419720"/>
            <a:chExt cx="7848720" cy="1678680"/>
          </a:xfrm>
        </p:grpSpPr>
        <p:pic>
          <p:nvPicPr>
            <p:cNvPr id="69" name="Picture 4" descr=""/>
            <p:cNvPicPr/>
            <p:nvPr/>
          </p:nvPicPr>
          <p:blipFill>
            <a:blip r:embed="rId1"/>
            <a:stretch/>
          </p:blipFill>
          <p:spPr>
            <a:xfrm>
              <a:off x="914400" y="4419720"/>
              <a:ext cx="769608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5"/>
            <p:cNvSpPr/>
            <p:nvPr/>
          </p:nvSpPr>
          <p:spPr>
            <a:xfrm>
              <a:off x="800100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7AD7-FB33-4F38-B79B-3C1BA7148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of 1°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° alcohol to aldehyde to carboxy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stop at aldehy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yridinium chlorochromate (PCC) to limit the oxid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C can also be used to oxidize 2° alcohols to ke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6"/>
          <p:cNvGrpSpPr/>
          <p:nvPr/>
        </p:nvGrpSpPr>
        <p:grpSpPr>
          <a:xfrm>
            <a:off x="1143000" y="4648320"/>
            <a:ext cx="7391520" cy="1602720"/>
            <a:chOff x="1143000" y="4648320"/>
            <a:chExt cx="7391520" cy="1602720"/>
          </a:xfrm>
        </p:grpSpPr>
        <p:pic>
          <p:nvPicPr>
            <p:cNvPr id="76" name="Picture 4" descr=""/>
            <p:cNvPicPr/>
            <p:nvPr/>
          </p:nvPicPr>
          <p:blipFill>
            <a:blip r:embed="rId1"/>
            <a:stretch/>
          </p:blipFill>
          <p:spPr>
            <a:xfrm>
              <a:off x="1143000" y="4648320"/>
              <a:ext cx="7391520" cy="13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5"/>
            <p:cNvSpPr/>
            <p:nvPr/>
          </p:nvSpPr>
          <p:spPr>
            <a:xfrm>
              <a:off x="7924680" y="5791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9785-094A-4A8B-8B89-DCA7EA51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° Alcohols Don’t Oxid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lose 2 H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for chromic aci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685800" y="3124080"/>
            <a:ext cx="7621560" cy="3355560"/>
            <a:chOff x="685800" y="3124080"/>
            <a:chExt cx="7621560" cy="3355560"/>
          </a:xfrm>
        </p:grpSpPr>
        <p:pic>
          <p:nvPicPr>
            <p:cNvPr id="83" name="Picture 4" descr="D:\WADE\CHAP11\FIGURES\FG11_004.PCT"/>
            <p:cNvPicPr/>
            <p:nvPr/>
          </p:nvPicPr>
          <p:blipFill>
            <a:blip r:embed="rId1">
              <a:lum contrast="18000"/>
            </a:blip>
            <a:srcRect l="0" t="20004" r="0" b="25720"/>
            <a:stretch/>
          </p:blipFill>
          <p:spPr>
            <a:xfrm>
              <a:off x="685800" y="3124080"/>
              <a:ext cx="76215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5"/>
            <p:cNvSpPr/>
            <p:nvPr/>
          </p:nvSpPr>
          <p:spPr>
            <a:xfrm>
              <a:off x="7239600" y="6019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B761-2AD2-4D3B-B650-DF34F9B76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xidation Re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ns reagent: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yr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es reagent: chromic acid in ace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trong oxidiz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ic acid (strong oxidiz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O, 300°C (industrial dehydrogen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rn oxidation:  dimethylsulfoxide, with oxalyl chloride and hindered base, oxidizes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cohols to ketones and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cohols to aldehydes.                          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4T20:23:36Z</dcterms:created>
  <dc:creator>Jo Blackburn</dc:creator>
  <dc:description/>
  <dc:language>en-US</dc:language>
  <cp:lastModifiedBy>Windows User</cp:lastModifiedBy>
  <cp:lastPrinted>2001-04-27T15:47:21Z</cp:lastPrinted>
  <dcterms:modified xsi:type="dcterms:W3CDTF">2010-12-13T17:20:22Z</dcterms:modified>
  <cp:revision>89</cp:revision>
  <dc:subject/>
  <dc:title>Reactions of Alcohols</dc:title>
</cp:coreProperties>
</file>